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59A3-D4C7-4642-B67B-0E6C2A445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in Ag class could actually complete each of the activities to determine the phenotype outcome and help them learn genetic principles. After doing the activities – theoretically and experimentally – students can identify which method demonstrated each type of probability calcul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EC86-2FE7-447E-A26C-FBBB6417D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E358C-55BA-49CD-9637-23CA6506AB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579C0-D950-473B-B31C-242D54ABC52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615C1-C09F-4E22-B5FA-C1723273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3FAFF-988B-47BB-B662-1F864D94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87283-2DEE-4288-8C6D-6E1DB506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24669-D285-46BF-B4B0-78318D23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946D8-4512-46C9-936F-A1CDF2EA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42F81-B483-4F4D-85AB-3818D02E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C6738-D9F8-4C20-A4D1-3372A3FF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36883-850E-4793-A170-0E5980B9B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7A34E-6D70-4BA3-8DDE-F058D3DCE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3E72A-6678-441E-ACCE-D0B0E62CA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598A8-5C75-4067-87C7-EC13FAFF84E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B2026-DC99-45C3-B31E-FD263FDC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E1976-2568-49CD-B43D-A0522157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5005C3-232A-477A-9798-A9F5D497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4A2F88-6519-4540-8FB6-06E6368C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4B95E-27BE-4319-BF43-225CB884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8A5901-80AC-4B33-BDE3-C010C5C6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76B9D-AE3F-4E40-9A06-40578FD9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DFB95-D4FE-48EB-ABF9-39DD7ED0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16D8E-719B-4418-8E4E-786518B3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48296-9910-4E42-9848-A31AF23D9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40D8D-CA65-4E6A-BB25-3D56E94E023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977B2-5D50-4977-A423-2C97721EB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1707E9-4C92-4F73-9C2C-7908B090B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8291F-2A3C-47F5-B796-A043B6E4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235CBE-216E-4596-B402-3A9A1EFA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B9BB8F-618B-41B1-90C3-3852875D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A28D5B-07C9-4C0C-A488-B588B511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E56213-073A-427C-8596-2A687845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2EC5E2-A73D-4757-B4B5-EC143A1C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2B007-61B2-4BFD-B5B1-8F0FAC00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9EF42-FE4D-43E2-BFA2-A41D5B19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3ADC-998B-4D81-A3AD-4615245768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5F7F06-F99C-49EF-81A2-90B3D8ED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532533-5F2F-4E7B-B594-6AB65CADA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3805E3-FFC3-4704-8996-BA6F9E86E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9F91C-C10F-4F4F-8CA1-941A93F3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E44FA-2547-4269-9A4D-462679CE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E603D-7BEC-47D9-B948-BD6042E6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C8681-F960-4FB3-A9A7-A6C96A2F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BC894-3CD5-478E-97AE-7D7097D4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0B4A4-2B05-4900-AACB-CF5A4FE0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8BC06-B22D-4C96-812E-0C67257B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9EFE-E3D3-49E3-9FC3-3568AFE9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02E0B-1CCD-4D26-9951-9C001143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7701C-7103-41EB-8CF7-5A33CF83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5DBF7-2110-45F6-A69F-589DDAB9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3884B-CDDD-4ADB-A0BB-FACD1362B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0A773-6D20-462D-8887-E0EE688BE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E5EC-7F0B-4D12-98C3-BF59ABA8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43C0-614F-47CF-9A57-06D6B6CF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F11C-A6DD-4CEB-B892-8018FFF88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4E77-FBE7-456F-9002-D8B64CD4F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DB17-0B60-426D-BCAF-55DA8FB3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0B67B-D76E-4FA9-9973-8C67070550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F3A6-5BA1-4522-BD2F-C57B42D8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B45A-BD9C-4281-A13A-4C94D4BA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0A9A-45D7-4330-936F-5D7FDE02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7324-D512-4DE6-86F0-6D1B879E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B72F-0C40-4BA5-B839-6F89048E5F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8E7A-020B-4F28-85A2-E07EB3207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69F1-DBFA-4A29-B9C9-8C93B553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7493-6F7B-42EB-9D0F-93D336B8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9774-8C3B-499B-81E1-3FD815B6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AC4B-683C-4AC3-8810-372EA5D1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B929C-A56D-46EA-920F-4ED4923458C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608C-65DF-410C-A04D-7FFA3E13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C294-98AF-4C53-B6DC-4F6CA9D2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3DFE-A5AA-4F60-AA78-38BCDFEC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5315-353B-4B2E-9A8F-612E60A6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AEA1-A7DB-4502-984C-0B095D63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D9E1-867E-4F2F-8C0F-F1B957E6E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4453-BA15-454A-87F8-4FFE6239A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67F5B-4555-4355-BB96-33067B2A9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C6433-D63F-4BEF-AFF7-40EC09EE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4A395-1BCC-4AD0-B6CB-FD8FB893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5BE07-1D47-44BF-BBF5-F4D8FC5EC9B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2A9D1-23F7-4AFD-AC92-C8661E08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42E47-DE59-471F-9F1C-A294A394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E48BD-8985-431E-844E-6ACFC480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73038-1EBE-4032-A4C8-DA883D7A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E1234-0699-4B99-9071-33993DCD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9E685-30A5-40BD-A4EA-9D1B5A42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2D3C0-1BB0-458D-8BBE-9C2C75FB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5F2A3-458A-4B79-85FD-25EAF3A56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B0430-E684-4FA1-AF3B-D13B752C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7545A-D9CD-4546-84FE-4C897FAD7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ED182-5371-4A27-8BBA-648679F3FBA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20A25-F88B-4B66-B428-B07F0BB5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B2D17-3120-4E74-98DF-B4FF11AC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8EC72-D89B-48BF-AA35-E67815CB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D8A63-3EF0-4F3B-ABB4-730EB700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00FCB-E212-4AEF-BC5B-1F539610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E98B3-42CD-4406-88CF-0E7F1C4F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B6484-F236-4C6B-84C6-3AE57380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2EACC-7C71-4C9C-A078-707E7FF3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29C5C-596C-4E47-BB78-DCB050F9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87B9E-538E-4C68-A65A-479428733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A5510-3676-4501-BAD3-002F8683AAA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4A54A-4AE7-4D32-8653-211F1DDFB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066C5-AC56-41FF-AB99-0B20E9CF1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9F26C-0A0A-4069-BCF0-652B77FF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EBA6E-4A2F-40DA-A007-C50CA90A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05FC3-32BA-4FB7-AFC5-196DCEBE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6F41A-0897-4122-BF6A-03AFC52E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0C80E-B576-4555-AD79-7FA2FAD9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B5C64-97B8-4CEE-907F-4E2BEEA3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C828B-4953-47D0-8744-058AC04A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509EA-1B4D-4D24-AA36-42CE526C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180E3-BE94-46D3-830B-CABEDD24E35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C866F-BF76-4DCE-9F5C-4EDAAF31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BBB6F-1C70-4AE3-9D72-F73C1CC46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290C5-90E2-480D-BAA2-DAA37E658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12870-861C-4FEA-B2C5-6C71C614C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45CF7-CCB6-4C49-9E9E-A5477479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494EE-8F87-4086-91A6-FCD1B957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A364D-5325-4433-8003-8931F846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512FC-B8F0-42EA-89C5-4CB3A332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F2671-20B7-413B-9487-66720AEE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A9302-8DD4-48A8-A08A-F631C408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7923D-AD07-45F1-8E39-A5C8F7263FE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0D964-06CA-4293-A3E1-A8D731E6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40593-3AB0-474F-890F-EC003574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B6A75-11FA-4A62-BF5A-BE158665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69356-017C-48BE-AF16-82D203D04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F0A56-BF89-4E66-8871-82C0D5C8B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C3058-CB22-440D-B7C6-DACC9A410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C6BB6-FCE2-47D5-A35E-5C4F2D98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1AB48-25EC-487F-AEBF-43C6CEE7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A6B14-18EB-41C4-933A-34D13998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DAF0A-3E9C-43C4-99B8-6B72E67F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F1B95-83D4-4FC4-BB7B-FCA0CBE09DD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2B92B-BCA4-44A1-939F-D6E3CCBD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2D011-50A4-4B90-9731-5CE818C0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0ACBE-E1DF-46C2-BD9C-7A656BB1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B17F1-1D46-4100-8F78-949BCAD9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F270E-9876-4944-95EF-EC512E12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BBB00-C7EE-4945-B9F5-137AFA99A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1AF8E-4403-418E-A21B-D5B66BE98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514AA-5067-4255-92B1-32B75888E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E8042-7C04-4484-991C-1A2225D5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E4729-A9FC-444F-AFEA-EC1AECAF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3EFE-AF6A-488A-A967-50BAA53EEC07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grpSp>
        <p:nvGrpSpPr>
          <p:cNvPr id="6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7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5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8D05-6A23-474F-9AF4-5CC454F970D0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6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6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28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7B81-650E-4B85-83CD-712CEDB0D833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1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928E-A27F-4770-8DBD-57BA337415BF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Straight Connector 7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49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2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042D-127A-492A-A26E-D30DDC8D5249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2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98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16EF-5D35-4A4C-A1C7-D8A32B6A46B1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Straight Connector 7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2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beec9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beec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7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55A0-A6BA-4670-91FF-18B718B2D40D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86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8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9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FAD2-E065-4E25-B0D8-EDE0E2EDDE8C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Straight Connector 7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36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FDB9-E259-444C-AD06-69BA90985404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80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83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86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6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A09C-6C78-4E08-B533-C7D50C1F8B71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9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19D1-18B8-4BC4-B197-64ADFB001E3D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Straight Connector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71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2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C07C-5773-44F3-80EF-1121D7F277C8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520" y="4852800"/>
            <a:ext cx="84582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SOUTH DAKOTA AFNR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Verdana"/>
              </a:rPr>
              <a:t>Academic Integration Activities: Example #6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EXAMPLE IN CONTEX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Answer: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0a22e"/>
              </a:buClr>
              <a:buSzPct val="70000"/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e3b30"/>
                </a:solidFill>
                <a:latin typeface="Verdana"/>
              </a:rPr>
              <a:t>Experimental probability. This would involve an actual experiment being conducted to determine the ratios of phenotypes.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0a22e"/>
              </a:buClr>
              <a:buSzPct val="70000"/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e3b30"/>
                </a:solidFill>
                <a:latin typeface="Verdana"/>
              </a:rPr>
              <a:t>Theoretical probability. The theoretical probability formula would be used for this activity.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GUIDED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Which activity represents theoretical probability?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0a22e"/>
              </a:buClr>
              <a:buSzPct val="70000"/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Make a list of likely results and calculate the probability of one plant producing four tomatoes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0a22e"/>
              </a:buClr>
              <a:buSzPct val="70000"/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Grow many tomato plants, record the number of tomatoes produced by each one, and record the probability of one plant producing four tomatoes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GUIDED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Answer: A. The first activity shows how a theoretical ratio could be found without an actual experiment being conducted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INDEPENDENT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Which activity represents experimental probability?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0a22e"/>
              </a:buClr>
              <a:buSzPct val="70000"/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Name the probable outcomes, and write the probability of having a white mouse after breeding two black mice together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0a22e"/>
              </a:buClr>
              <a:buSzPct val="70000"/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Breed several black mice to other black mice, record the number of white offspring, and write the probability of having a white mouse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INDEPENDENT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Answer: B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INDEPENDENT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Which activity represents theoretical probability?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0a22e"/>
              </a:buClr>
              <a:buSzPct val="70000"/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Create a sample space of probable outcomes, and write the probability of producing a normal rabbit after mating an albino rabbit with a brown rabbit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0a22e"/>
              </a:buClr>
              <a:buSzPct val="70000"/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Mate an albino rabbit with a brown rabbit, record the number of normal (non albino) rabbits, and write the probability of having a normal rabbit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INDEPENDENT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Answer: A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5"/>
          <p:cNvSpPr/>
          <p:nvPr/>
        </p:nvSpPr>
        <p:spPr>
          <a:xfrm>
            <a:off x="609480" y="1900080"/>
            <a:ext cx="7925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Animal Science students distinguish between experimental and theoretical probability as it relates to genetic out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AG STANDARD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undamental Animal Science—AN4.3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Predict genetic outcomes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Determine genotype and phenotype.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ACADEMIC STANDARD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9-12.S.2.1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tudents are able to distinguish between experimental and theoretical probability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BACKGROUND INFORMATION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Probability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Likelihood an event will occur expressed as a ratio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BACKGROUND INFORMATION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Experimental probability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Conduct an experiment to determine probability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eoretical probability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Use equation to determine probability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4" name="Rectangle 4"/>
          <p:cNvSpPr/>
          <p:nvPr/>
        </p:nvSpPr>
        <p:spPr>
          <a:xfrm>
            <a:off x="1295280" y="2593800"/>
            <a:ext cx="6858000" cy="642600"/>
          </a:xfrm>
          <a:prstGeom prst="rect">
            <a:avLst/>
          </a:prstGeom>
          <a:noFill/>
          <a:ln w="381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Experimental probability =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Number of event occurren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Number of total t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5"/>
          <p:cNvSpPr/>
          <p:nvPr/>
        </p:nvSpPr>
        <p:spPr>
          <a:xfrm>
            <a:off x="1295280" y="4459320"/>
            <a:ext cx="6858000" cy="642600"/>
          </a:xfrm>
          <a:prstGeom prst="rect">
            <a:avLst/>
          </a:prstGeom>
          <a:noFill/>
          <a:ln w="381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Theoretical probability =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Number of favorable outcom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Number of total 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BACKGROUND INFORMATION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Determine which of the two activities represents experimental probability: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f0a22e"/>
              </a:buClr>
              <a:buSzPct val="70000"/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Verdana"/>
              </a:rPr>
              <a:t>Roll two dice many times, record the sums, and write the probabilities of different sums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f0a22e"/>
              </a:buClr>
              <a:buSzPct val="70000"/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Verdana"/>
              </a:rPr>
              <a:t>Create a sample space of all possible outcomes and write the probabilities of different sums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BACKGROUND INFORMATION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Answer: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0a22e"/>
              </a:buClr>
              <a:buSzPct val="70000"/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e3b30"/>
                </a:solidFill>
                <a:latin typeface="Verdana"/>
              </a:rPr>
              <a:t>Experimental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0a22e"/>
              </a:buClr>
              <a:buSzPct val="70000"/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e3b30"/>
                </a:solidFill>
                <a:latin typeface="Verdana"/>
              </a:rPr>
              <a:t>Theoretical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EXAMPLE IN CONTEX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Which activity represents theoretical probability? Which activity represents experimental probability?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0a22e"/>
              </a:buClr>
              <a:buSzPct val="70000"/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Mate a Hereford bull with twenty Angus heifers, record the calves’ phenotypes, and write the probabilities of different phenotypes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0a22e"/>
              </a:buClr>
              <a:buSzPct val="70000"/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Create a sample space of probable outcomes and write the probabilities of different phenotypes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8:41:56Z</dcterms:created>
  <dc:creator>Lora</dc:creator>
  <dc:description/>
  <dc:language>en-US</dc:language>
  <cp:lastModifiedBy>Lora</cp:lastModifiedBy>
  <dcterms:modified xsi:type="dcterms:W3CDTF">2010-08-05T15:53:20Z</dcterms:modified>
  <cp:revision>18</cp:revision>
  <dc:subject/>
  <dc:title>South Dakota Ag Edu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50187263</vt:r8>
  </property>
  <property fmtid="{D5CDD505-2E9C-101B-9397-08002B2CF9AE}" pid="3" name="_AuthorEmail">
    <vt:lpwstr>Tiffany.Sanderson@state.sd.us</vt:lpwstr>
  </property>
  <property fmtid="{D5CDD505-2E9C-101B-9397-08002B2CF9AE}" pid="4" name="_AuthorEmailDisplayName">
    <vt:lpwstr>Sanderson, Tiffany</vt:lpwstr>
  </property>
  <property fmtid="{D5CDD505-2E9C-101B-9397-08002B2CF9AE}" pid="5" name="_EmailSubject">
    <vt:lpwstr>AFNR Integration Strategies</vt:lpwstr>
  </property>
</Properties>
</file>